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2D3E-50D8-44BA-9ED1-B330759F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C7A8-FBFC-496D-B68B-0A5C89EE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71B2-7C4D-47AC-B78F-CBF167F1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9A61-38FD-4DB5-9F14-110769D3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E6B9-B3FA-4D08-BB44-D14754EA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79DA-D306-4146-93AD-BCCB9215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F59E-3AAF-432C-A046-62FA53A4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361C-B79A-4DB5-8173-0BA6B8FE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EBA6-14BC-480F-A619-4DB3BCD3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37E6-A6EF-429F-9F4C-8708CF20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CF74-2CB0-40A6-AE5C-3E3CA45F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6819-6C8F-48BD-9A94-3279942B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F6754-291B-47A4-B852-DC00BB3169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180036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It would affect agri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Food shor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900000"/>
            <a:ext cx="9720360" cy="216072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1247782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ff3366"/>
                  </a:solidFill>
                  <a:miter/>
                </a:ln>
                <a:solidFill>
                  <a:srgbClr val="ff3366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Times New Roman"/>
              </a:rPr>
              <a:t>Melting ice on the top of mountains</a:t>
            </a:r>
            <a:endParaRPr b="0" lang="en-US" sz="1800" spc="-1" strike="noStrike">
              <a:ln w="9360">
                <a:solidFill>
                  <a:srgbClr val="ff3366"/>
                </a:solidFill>
                <a:miter/>
              </a:ln>
              <a:solidFill>
                <a:srgbClr val="ff3366"/>
              </a:solidFill>
              <a:effectLst>
                <a:outerShdw dist="152735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03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 u="sng">
                <a:solidFill>
                  <a:srgbClr val="ff3366"/>
                </a:solidFill>
                <a:uFillTx/>
                <a:latin typeface="Georgia"/>
              </a:rPr>
              <a:t>It would affect agri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Georgia"/>
              </a:rPr>
              <a:t>Adaptation of the practices of production to the global warming The intensification of the global warming will imply(involve) modifications in the practices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- the choice of a genetic material suited with the selection of varieties to longer or later cycle, more heatproo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- the development (clarification) of new practices with the adjustment of the calendar of the cultures and the cultural techniques (fertilization, irriga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- the consideration of the development or the emergence of diseases and damage mak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- the application of agricultural practices limiting greenhouse gas emissions, in particular to fertiliz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179280"/>
            <a:ext cx="90709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 u="sng">
                <a:solidFill>
                  <a:srgbClr val="ff3366"/>
                </a:solidFill>
                <a:uFillTx/>
                <a:latin typeface="Georgia"/>
              </a:rPr>
              <a:t>Food</a:t>
            </a:r>
            <a:r>
              <a:rPr b="1" lang="fr-FR" sz="4400" spc="-1" strike="noStrike" u="sng">
                <a:solidFill>
                  <a:srgbClr val="ff3366"/>
                </a:solidFill>
                <a:uFillTx/>
                <a:latin typeface="Arial"/>
              </a:rPr>
              <a:t> </a:t>
            </a:r>
            <a:r>
              <a:rPr b="1" lang="fr-FR" sz="4400" spc="-1" strike="noStrike" u="sng">
                <a:solidFill>
                  <a:srgbClr val="ff3366"/>
                </a:solidFill>
                <a:uFillTx/>
                <a:latin typeface="Georgia"/>
              </a:rPr>
              <a:t>shor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There is less and less food, the prices get up very fast. You can manage it by yourself, making your own survival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http://www.foodshortageusa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